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88D-5DD1-4FB9-B86D-33FED8A6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0AD-0962-4611-9A94-6C16E303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420B-23B0-4E07-B50A-8B4A0BC1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5FEB-E4CB-4A64-AEA7-70DE8702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F3C5-64B8-4015-8E60-8562D655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E27A-09CD-4767-AAF1-051A318E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68B6-BF78-4E1F-B16F-5838ABAD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680E-EB70-4A87-936D-997E56FC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5A5F-EF91-4C4A-9BC9-5CFB86B5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F398-2087-46A5-A100-0D400B02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230C-4366-4CCB-B73A-13F2B5CC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A6E-8F15-40D0-A236-5E19182C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0D24-5F13-4FB9-A444-31891448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F9B4-F136-44B8-A6F5-67555805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CF6D-A2C7-4DD6-8970-D4881059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42F2-E75C-4CD0-B52E-D5AE40B2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579C-D7AC-47E3-BB30-A1CDFBA4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BCD23-AF14-4D6D-9C3A-06A00F6D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79AE0-4230-49D4-89EF-3C3CD38C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49638-3FC0-46EC-A8B4-895A268F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888A3-9B19-459A-8C0E-FCF7BAF1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AC8DC-3F05-4DEC-97E5-7D8D25D6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A4F-B019-48F0-8F58-EC3458D5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6C3F9-C8E9-45F3-9D14-01119015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23DA3-8E08-4E3D-8F59-5E2CFBA0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18B4D-8ABA-4B32-BAD2-9594799D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111D3-39EB-47BC-B780-7621A1E4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5FA84-027C-472A-A82A-0205AFB4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983C4-3300-445E-8120-8C2BE8ED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5B1C8-5B8E-427A-AFE2-4A652FAD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39CD4-29E0-4133-8986-740E464D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3E427-AD8A-4187-9B97-F087514E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64158-990F-4851-903A-3D90937E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28D2-156B-4B47-9E66-B766D75B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B0ACA-785C-4594-B059-CA6DE26A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D57C1-B521-4070-A7C8-8D7946AF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FF41C-ABBB-4D6F-B4D3-3FE5FF99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E1422-954B-48A2-919B-2C218650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4DF6F-E23A-4999-BD4D-EE993AE7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B7862-5470-4A26-A821-DE0A8B12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8274A-2548-4A61-9DE1-9C804170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69893-F47A-4D54-B8CD-664F5135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3FFA7-788A-40C8-875B-B5A817BF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1AF6A-932B-46DE-9C90-425237C5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A0D-6CAA-4BB1-AF83-52E71802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4AA60-5331-47C7-9DF7-F0F70017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8C74D-DA67-4FD3-B061-0EA4B627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A1D69-9755-4DDA-B7CB-ABBF7329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5A31E-CA40-43AD-B611-109750A5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AE7CA-952B-4B60-A17E-0127FCF3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F17AA-214A-43C2-AD24-FBF3D607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75A79-E4A1-4E8D-A4F7-A60BCE83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59FAE-CB7F-420B-B7FC-1435248C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C4554-857F-4AC5-AD9D-0ED4C96E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2E9C4-9F0B-4AE3-A88B-BD79E0B2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FA7-DFAD-46D2-AEC2-829B7794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3773B-4990-470C-BB48-BE9E4B9C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578ED-A197-4D8B-A8D1-87866D07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45941-A77A-4692-B5B6-AB1030B5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3D245-7349-4544-A0FB-A03B2639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540ED-7A9A-4A06-9624-72E53B48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34AE3-5452-48D6-9CAF-E2F2F4D4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04080-4D1F-45EF-AC0B-6DDB1F17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18CE0-A583-498C-BBD6-193628A4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BE135-027E-43C8-AA77-F147F2EA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EAC97-912F-492B-B048-10C66136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123-CDD6-49AC-835D-7CAD48BD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D812E-0230-4983-B175-A07B9FAD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30614-CD2F-4496-8914-4B557D0D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9F6B7-A45A-43A2-BA1A-93E396F2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FD5CE-E38B-4EBE-AF89-5956B9EB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9680D-84F8-4770-A054-BAADBE42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042E4-E05D-4468-885D-BE96325E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28FA0-5913-4B65-B3B8-BCEC20BC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3E704-2EB0-4B52-BC4B-8F7C1490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2C9E5-398F-4A80-8015-910D985B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4C2DF-D9EC-4679-A435-585D40A0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B282-854B-418D-9D0E-9D291881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C8430-DC6E-4EFA-BD5C-45925367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03DE2-7111-420D-B324-9CAF35A2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658CA-29F7-4918-B229-77612E3B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5A4CC-DE01-4E9B-8B4A-AEA20714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3E809-BEA1-493C-BEC6-6BC4AB20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C07-D09B-4DF2-9271-A4D44447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32804_1.jpg"/>
          <p:cNvPicPr/>
          <p:nvPr/>
        </p:nvPicPr>
        <p:blipFill>
          <a:blip r:embed="rId3"/>
          <a:stretch/>
        </p:blipFill>
        <p:spPr>
          <a:xfrm>
            <a:off x="0" y="5497560"/>
            <a:ext cx="1793880" cy="1360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6E9D-393B-4AB5-AD45-F1DC354CB6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оугольник 7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8" descr="132804_1.jpg"/>
          <p:cNvPicPr/>
          <p:nvPr/>
        </p:nvPicPr>
        <p:blipFill>
          <a:blip r:embed="rId3"/>
          <a:stretch/>
        </p:blipFill>
        <p:spPr>
          <a:xfrm>
            <a:off x="571680" y="4286160"/>
            <a:ext cx="2827080" cy="21463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9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922B-75A9-4A06-9D98-1A7EAE0E29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4C4B-6322-4219-8D4E-F305516C57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8" descr="132804_1.jpg"/>
          <p:cNvPicPr/>
          <p:nvPr/>
        </p:nvPicPr>
        <p:blipFill>
          <a:blip r:embed="rId3"/>
          <a:stretch/>
        </p:blipFill>
        <p:spPr>
          <a:xfrm>
            <a:off x="0" y="285840"/>
            <a:ext cx="1357200" cy="103032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9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47F4-3A7F-4079-B405-266ABFE8F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8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B478-28EF-4E87-9735-2F143A7A60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8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88FD-9C3D-4E9D-80F7-746EEFAFAC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8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C42B-FE95-4EFF-8676-997D0E66EF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евой проек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мире поэз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500200" y="2999880"/>
            <a:ext cx="578664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Участники проекта – команда «Книголюбы», учащиеся 6 «А» МБОУ «Верховажская средняя школа имени Я.Я.Кремле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4" descr="C:\Users\User\Documents\logo.gif"/>
          <p:cNvPicPr/>
          <p:nvPr/>
        </p:nvPicPr>
        <p:blipFill>
          <a:blip r:embed="rId1"/>
          <a:stretch/>
        </p:blipFill>
        <p:spPr>
          <a:xfrm>
            <a:off x="714240" y="714240"/>
            <a:ext cx="13813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авни стихотвор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85716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Гей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4720" y="928440"/>
            <a:ext cx="40417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Лермо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357800" y="1428840"/>
            <a:ext cx="46432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 ди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олой верши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одинокой, пустынной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та снегом сыпучим, как ризой (риза – верхняя одежда священника, надеваемая во время богослуж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 грустна…прекрасная паль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тёсе горючем ( горючий – от горе, горестны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6840" y="1428840"/>
            <a:ext cx="36147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еве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холодной верш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лым покрывалом окутывают её лёд и сне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око и молча печали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ылающей скале (огненной, горящей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40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артины поэз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356760"/>
            <a:ext cx="65437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79297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40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артины поэз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356760"/>
            <a:ext cx="65437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Рисунок 1" descr=""/>
          <p:cNvPicPr/>
          <p:nvPr/>
        </p:nvPicPr>
        <p:blipFill>
          <a:blip r:embed="rId1"/>
          <a:stretch/>
        </p:blipFill>
        <p:spPr>
          <a:xfrm>
            <a:off x="900000" y="1139760"/>
            <a:ext cx="72820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Использованные ресур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img-fotki.yandex.ru/get/5903/zomka.222/0_61638_db164b6b_L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фо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www.komus.ru/photo/full/132804_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книги, перо, чернильниц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elcanto.ru/media/images/publication/14100625_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ртрет Лермонт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b1.culture.ru/c/25603.688x392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фото с. Тарха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nasledie-rus.ru/img/1110000/1110508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ртрет бабушки Лермонт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nasledie-rus.ru/img/1110000/111110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ртрет Лермонтова в дет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bornik-stihov.ru/grafika55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ртрет Генриха Ге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5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рмонтов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хаил Юрьевич Лермон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1814-184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ын страдань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7" descr="C:\Users\User\Documents\lermontov4.jpg"/>
          <p:cNvPicPr/>
          <p:nvPr/>
        </p:nvPicPr>
        <p:blipFill>
          <a:blip r:embed="rId1"/>
          <a:stretch/>
        </p:blipFill>
        <p:spPr>
          <a:xfrm>
            <a:off x="500040" y="1500120"/>
            <a:ext cx="34830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6760" y="1571760"/>
            <a:ext cx="30085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тво М.Лермонтова прошло в с.Тарханы Пензенской губер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3762360" y="1434960"/>
            <a:ext cx="49244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ель (так называли его близкие люди) рано потерял мать. Воспитанием мальчика занималась бабушка, Елизавета Алексеев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Рисунок 1" descr=""/>
          <p:cNvPicPr/>
          <p:nvPr/>
        </p:nvPicPr>
        <p:blipFill>
          <a:blip r:embed="rId1"/>
          <a:stretch/>
        </p:blipFill>
        <p:spPr>
          <a:xfrm>
            <a:off x="3924360" y="853920"/>
            <a:ext cx="3809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безграничную любовь бабушки, мальчик часто чувствовал себя одиноким и несчаст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Рисунок 1" descr=""/>
          <p:cNvPicPr/>
          <p:nvPr/>
        </p:nvPicPr>
        <p:blipFill>
          <a:blip r:embed="rId1"/>
          <a:stretch/>
        </p:blipFill>
        <p:spPr>
          <a:xfrm>
            <a:off x="4226040" y="706320"/>
            <a:ext cx="38098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117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в детстве занимался музыкой, рисованием, шахматами, литератур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собенно немецкой). Он словно чувствовал, что жизнь его будет короткой. А ему так много нужно успет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7" descr="C:\Users\User\Documents\lermontov4.jpg"/>
          <p:cNvPicPr/>
          <p:nvPr/>
        </p:nvPicPr>
        <p:blipFill>
          <a:blip r:embed="rId1"/>
          <a:stretch/>
        </p:blipFill>
        <p:spPr>
          <a:xfrm>
            <a:off x="4211640" y="1125360"/>
            <a:ext cx="3811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60436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крывая этот мир волшебный»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00400" y="713880"/>
            <a:ext cx="36860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13880" y="1143000"/>
            <a:ext cx="45975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 диком стоит одинок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На голой вершине сос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емлет, качаясь, и снегом сыпучи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Одета, как ризой, о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нится ей все, что в пустыне далек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В том крае, где солнца восход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 грустна на утесе горюче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Прекрасная пальма раст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Содержимое 5" descr="i (1).jpg"/>
          <p:cNvPicPr/>
          <p:nvPr/>
        </p:nvPicPr>
        <p:blipFill>
          <a:blip r:embed="rId1"/>
          <a:stretch/>
        </p:blipFill>
        <p:spPr>
          <a:xfrm>
            <a:off x="5429160" y="1714680"/>
            <a:ext cx="34005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73296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крывая этот мир волшебны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28760" y="1642680"/>
            <a:ext cx="48830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окая, груст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, думает, сни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тся ей паль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о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103000" y="2738880"/>
            <a:ext cx="2910240" cy="28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он, рад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Выноска-облако 8"/>
          <p:cNvSpPr/>
          <p:nvPr/>
        </p:nvSpPr>
        <p:spPr>
          <a:xfrm>
            <a:off x="5857920" y="2714760"/>
            <a:ext cx="1071360" cy="5713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Выноска-облако 11"/>
          <p:cNvSpPr/>
          <p:nvPr/>
        </p:nvSpPr>
        <p:spPr>
          <a:xfrm>
            <a:off x="6786720" y="3071880"/>
            <a:ext cx="1357200" cy="7142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Выноска-облако 12"/>
          <p:cNvSpPr/>
          <p:nvPr/>
        </p:nvSpPr>
        <p:spPr>
          <a:xfrm>
            <a:off x="4714920" y="3357720"/>
            <a:ext cx="1143000" cy="7142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Выноска-облако 13"/>
          <p:cNvSpPr/>
          <p:nvPr/>
        </p:nvSpPr>
        <p:spPr>
          <a:xfrm>
            <a:off x="6786720" y="4357800"/>
            <a:ext cx="1285560" cy="785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Выноска-облако 14"/>
          <p:cNvSpPr/>
          <p:nvPr/>
        </p:nvSpPr>
        <p:spPr>
          <a:xfrm>
            <a:off x="4857840" y="4643280"/>
            <a:ext cx="1428840" cy="5716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аст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Выноска-облако 15"/>
          <p:cNvSpPr/>
          <p:nvPr/>
        </p:nvSpPr>
        <p:spPr>
          <a:xfrm>
            <a:off x="5643720" y="3500280"/>
            <a:ext cx="1285560" cy="1000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шевны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Выноска-облако 16"/>
          <p:cNvSpPr/>
          <p:nvPr/>
        </p:nvSpPr>
        <p:spPr>
          <a:xfrm>
            <a:off x="6000840" y="5429160"/>
            <a:ext cx="1500120" cy="642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654372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о - отражение мысл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284720" y="246240"/>
            <a:ext cx="44020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 севере диком…» по сути это не авторское стихотворение — это перевод лирической миниатюры немецкого романтика Генриха Гей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83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а стоит одинок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 на холодной вершин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дремлет, белым покрывал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утывают её лёд и сне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мечтает о пальм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далеко на восто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око и молча печалит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ылающей ска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Гей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Рисунок 1" descr=""/>
          <p:cNvPicPr/>
          <p:nvPr/>
        </p:nvPicPr>
        <p:blipFill>
          <a:blip r:embed="rId1"/>
          <a:stretch/>
        </p:blipFill>
        <p:spPr>
          <a:xfrm>
            <a:off x="5148360" y="3381480"/>
            <a:ext cx="23731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7T17:56:24Z</dcterms:created>
  <dc:creator>User</dc:creator>
  <dc:description/>
  <dc:language>en-US</dc:language>
  <cp:lastModifiedBy>user</cp:lastModifiedBy>
  <dcterms:modified xsi:type="dcterms:W3CDTF">2015-10-30T08:47:02Z</dcterms:modified>
  <cp:revision>25</cp:revision>
  <dc:subject/>
  <dc:title>         Сетевой проект  «В мире поэзии»</dc:title>
</cp:coreProperties>
</file>